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3E7C9-B7B1-4FDD-894D-2A81EDB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45860-D4CF-4634-B6FE-99299F3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996B-CBA5-46EC-ABF3-2B0FD41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C9C15-AD2C-4C16-ABD4-1164F7B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6D394-11A5-474A-85C4-13D4B1C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B776-19DC-447A-AA9C-A5D577C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AA4AE-B09C-4E0E-B6C8-7324B2F9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FEC0-E5A7-4ADE-BD22-75F458FE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180B-D01D-46FF-9434-15BA6B39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1205-A8B9-4FED-9475-B0B396CF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1137-92AC-4060-A5BF-60652783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2300-B727-4D16-8FFC-35ADF3C1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6BEC9-46A4-4232-B0B8-529DC9A8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67A8-B931-42C3-93C1-4997937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2A4A3-E8C3-4FAB-B7DC-81B9A23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6D661-4E1E-4334-986F-FFF254D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6DF2-492C-4E22-A177-0B49406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91DFF-D91F-414B-B2A0-AAFE945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BEE07-6197-449A-8F51-16C0C3B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A55E7-8A33-4874-8D1A-60CB7C41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FD8E8-593F-404D-8D89-A1C63B2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EC082-E751-4FCB-9B6B-7C5B5423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E70A4-C5D8-4757-8E88-153C3D6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ECBFA-88D5-4C27-B732-2575199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635B4-4773-4B6E-8696-641F64B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BF08-3691-4757-9FDC-2DEDA4A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149E3-F589-425B-869B-0F28E49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C0661-E317-40FE-908A-C3AA271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EB1E-B12E-4F54-B91D-C422DEB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D2821-E779-422C-9475-44A7B24D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5D7-5D2A-4B53-B0D0-D2B2B59D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F5095-FA56-449F-92EE-2A731C01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503BA-B486-4289-853E-E8F313A8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FDB31-E24D-4015-A8D0-006217A7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B9210-0BC8-4584-B02B-51273B10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C5C4-A853-4E54-AD94-5B27F31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3F7A2-2A3F-4E81-8035-DEAE385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A018-4E3B-4979-8F0D-313072F3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BF62D-7931-46C5-B733-45BDAF2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23FFF-6E20-4A23-B3E0-8E690A3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051C2-8941-4540-9301-F2061AF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199-E125-4C24-A3F7-D8C167A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BA7CA-F374-4840-B812-C943B69B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9D990-AE6F-4552-9F2D-5347C7A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D42D1-CDB5-43A5-ADCB-16737E9C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06E05-9E51-42B1-A1BA-5D788E8B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B290-8A65-47B9-9887-DD3A51C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A52-FF28-4A53-93A1-81E128E7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B66-EC8A-46D9-979E-71759BAF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722-2DF5-4C81-B787-E12D099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B1F-A7FC-44E9-AB84-853083BD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EEC-B77A-410B-B118-082F980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485-688E-46C6-8285-5328E95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49D-DB9D-4466-83E9-E81DBED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611-58C4-472E-9619-99E42CF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EF8-BDA5-4674-8CB6-6C179AFF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E6-A7F8-44ED-A592-48EA66A5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B782-76AC-4F22-BB69-1372FC99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E192-F58C-47C1-BB70-9ADC182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82B-7425-43AF-99B5-AB5BBC0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938-4B27-4E4C-A83D-E6E0D5E3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F31-A40C-4D52-A7B0-256CBCC2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90A-93D0-46A9-BD10-AC006FDC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3299-7C0F-4FB3-A033-870B511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5C5-CC5E-4EC0-A02D-D087195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5380-1F88-4884-AAF7-DB0A381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2842-8796-4634-A15E-0D4B966F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B8CC-31CF-4AD7-9206-B55A9E2E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DEE-AB62-4165-B86E-C271B0EB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780D-9014-401C-BDAE-3012A09F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01FD-A32C-4C9E-8B71-F2326783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F604-2C9E-4DC9-AE0B-20B2DF3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C628-6C2F-4424-9F00-692B0216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3892-72D4-4E67-8C83-6772168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5BB3-0256-476B-B80C-18E285D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E752-4FF9-494D-B33F-D535A25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CB3D-B1D6-481D-B17F-46BB2D92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CC1B-42B0-4472-B6C4-E380E24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E882-7311-4691-AB96-C987C38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E301-EBF1-438E-9659-10D073B1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676E-90D8-49CC-A85A-FD796D3D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3E78-9D15-40CB-8399-9A957A99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B2DF-F8C6-4676-A545-8A7A20F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D4F7-5561-46B0-8AD5-71B432A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F07A2-671A-4DE6-8893-6CDC811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146A-E085-4DD4-A9EA-39E1C53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7D40-AF89-45CD-BEFB-618EDF98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9D12-1A29-4101-B838-8F6DFA0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9DF2-F9A5-4DBF-A2A0-4C4B2FA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D750-E707-4C62-B582-F450564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4F9C-777E-49C4-A4F5-E92C2887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7C25-2D09-4A15-A7DE-A6C1771C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C2D2-369E-47CF-9CF8-502C5E4D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66A25-9E63-41AE-B9AE-313BBE58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18C0-211A-4E7F-9607-17C18463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D940-65B2-4034-8B0C-E4C2878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CACD-087B-44A4-BD7D-8EB799BF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A7FA-91C4-44A8-BCDA-D02DC32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9539-0895-41AE-A36D-208D6DD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55B1-C9ED-49F7-BB09-EB3AFF2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4A9B-94D3-44EF-9F88-24E95B9F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FCF8-B361-48E4-8CFE-A6BC5A1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5BEF-B174-4E4F-A35B-5875ED01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7D0D-8A9E-429C-A672-6948B782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278F-5AAD-46F4-BA33-ACAD8E75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FC27-384C-4EAA-A45F-2E8F7BC0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BC3B-00B2-4090-A55F-F0CA63C0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F460-89BB-4B2B-8AB6-19E68AF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1531-1D3D-4A72-AD09-ACFD43D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6E73-814D-404B-BEA4-53F7F58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5996-F698-410D-9816-E141DCE4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FA9C-78D3-4541-91F6-576F7DC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C647B-24DE-47B5-8F86-B680BFC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F985-FE8E-4950-A04A-EC201E6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BA519-1E82-46AA-BDB7-98C6CFD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27DC-EF91-431F-B730-332A272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EFC5-549A-4624-B8EC-1E96836D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A120-F035-47F6-B96D-11300BF0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36D6-E8D1-461B-AA65-05AD830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D4D8-A1B4-4478-BE71-581E0798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6BFE-CD52-4707-B029-BFC34AF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161E-0C3C-44DF-ABB2-BFE4EF6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BA7C-6243-4B17-AB96-AF8C910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43BC-D72B-46A2-911A-6E8AAD39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7548-18B5-4B7C-9277-C20AFD22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2A2C-2A58-4651-967E-CC120BE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AF84D-A25C-4A1D-9649-051F554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B13B-DC4B-4AC5-875F-89C9C77F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B307-659C-41B1-BDA2-B1091508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FEE2-324F-4843-9CDE-D6E28686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1B54-B319-46C2-914D-C0C776E0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562F-1397-429F-867D-D838200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7DFD-7814-433E-A804-91ED2FAD3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dt" idx="28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9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30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8012-D13B-4A15-A6AE-19F5250CC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3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C1A1-B545-48AB-A98B-7FC61CEFD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527120" y="3090960"/>
            <a:ext cx="7566120" cy="188640"/>
            <a:chOff x="1527120" y="3090960"/>
            <a:chExt cx="7566120" cy="188640"/>
          </a:xfrm>
        </p:grpSpPr>
        <p:sp>
          <p:nvSpPr>
            <p:cNvPr id="41" name="Rectangle 3"/>
            <p:cNvSpPr/>
            <p:nvPr/>
          </p:nvSpPr>
          <p:spPr>
            <a:xfrm>
              <a:off x="1531800" y="3101760"/>
              <a:ext cx="7561440" cy="16776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>
              <a:off x="1536480" y="327636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536480" y="323820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1536480" y="3190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1536480" y="3136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527120" y="30909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9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0" y="65160"/>
            <a:ext cx="1473120" cy="6405480"/>
            <a:chOff x="0" y="65160"/>
            <a:chExt cx="1473120" cy="6405480"/>
          </a:xfrm>
        </p:grpSpPr>
        <p:pic>
          <p:nvPicPr>
            <p:cNvPr id="49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160956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Freeform 12"/>
            <p:cNvSpPr/>
            <p:nvPr/>
          </p:nvSpPr>
          <p:spPr>
            <a:xfrm>
              <a:off x="60480" y="65160"/>
              <a:ext cx="1412640" cy="1454040"/>
            </a:xfrm>
            <a:prstGeom prst="pie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9360" y="3313080"/>
              <a:ext cx="1413000" cy="1454040"/>
            </a:xfrm>
            <a:prstGeom prst="pie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9360" y="5016600"/>
              <a:ext cx="1413000" cy="1454040"/>
            </a:xfrm>
            <a:prstGeom prst="pie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1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2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3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60B-68CA-423D-A69C-E90F6BD54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75E-1222-4095-9535-9C263B63CC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3708-3368-42FC-8B66-4FBADDDA6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284A-E47A-4178-B146-A1C006565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dt" idx="1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ftr" idx="1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794B-4F4C-4FD9-9BE7-6B7C998C9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6F5-2B03-4E37-9330-D4A6677162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07F7-6070-472A-A39C-417E43E32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E824-FA6A-4653-9D22-8BB8A9723C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Right to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National Campaig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bring back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Sponso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Peaceful Playground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iStockplaygroundboyXSmall.jpg"/>
          <p:cNvPicPr/>
          <p:nvPr/>
        </p:nvPicPr>
        <p:blipFill>
          <a:blip r:embed="rId2"/>
          <a:stretch/>
        </p:blipFill>
        <p:spPr>
          <a:xfrm>
            <a:off x="4876920" y="1600200"/>
            <a:ext cx="2438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676160" y="23623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s overall fitness scores improved,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chievement scores also impro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Grissom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Play &amp; Well Being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If you look at what produ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learning and memory and well-being, play is as fundamental as any other aspect of life, including sleep and dreams.’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Br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P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and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of Early Child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pecialists in State Departmen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838080" cy="878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0288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494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Education of Young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Elementary School Principal’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merican Association for A Child’s Right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1330560" cy="358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naesp logo.jpg"/>
          <p:cNvPicPr/>
          <p:nvPr/>
        </p:nvPicPr>
        <p:blipFill>
          <a:blip r:embed="rId3"/>
          <a:stretch/>
        </p:blipFill>
        <p:spPr>
          <a:xfrm>
            <a:off x="3429000" y="4267080"/>
            <a:ext cx="1411200" cy="762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IPA logo.jpg"/>
          <p:cNvPicPr/>
          <p:nvPr/>
        </p:nvPicPr>
        <p:blipFill>
          <a:blip r:embed="rId4"/>
          <a:stretch/>
        </p:blipFill>
        <p:spPr>
          <a:xfrm>
            <a:off x="3429000" y="5562720"/>
            <a:ext cx="1523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How You Can Help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PTA Board Members &amp;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school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local newspaper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ttend upcoming events on Right to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your neighbors &amp;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 and Tools 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cuing Recess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Sign up to support our local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</a:rPr>
              <a:t>Peaceful Play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ker Fe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www.peacefulplayground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71800" y="3805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Take a Pol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aise your hand if you had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hen you were in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Have children chang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healthier toda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more a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we eliminate re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National Statistics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 on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pproximately 50% of children are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o Child Left Behind (emphasis on academ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iability  Increasing (Not suppor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egal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Chart 6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3505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Recess…Is Important 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for our Kid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9 percent of PTA parents and teachers say that recess is important for elementary schoo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Chart 6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Is Recess Important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371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-fourths disagree that all schoo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be spent on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0 percent disagree that recess is a waste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 out of four agree that recess should be mandato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Your Child’s Schoo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17760" y="16002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Recess at lunch time Eat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(time to play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orning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Afternoon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6" descr="iStock_soccergirlXSmall.jpg"/>
          <p:cNvPicPr/>
          <p:nvPr/>
        </p:nvPicPr>
        <p:blipFill>
          <a:blip r:embed="rId2"/>
          <a:stretch/>
        </p:blipFill>
        <p:spPr>
          <a:xfrm>
            <a:off x="5029200" y="2209680"/>
            <a:ext cx="2620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Greatest Risk for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Recess Elimination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2880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inority sch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563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earch Findings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More attentive after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&amp; Davis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5" descr="iStockMathSheetXSmall.jpg"/>
          <p:cNvPicPr/>
          <p:nvPr/>
        </p:nvPicPr>
        <p:blipFill>
          <a:blip r:embed="rId2"/>
          <a:stretch/>
        </p:blipFill>
        <p:spPr>
          <a:xfrm>
            <a:off x="2514600" y="3886200"/>
            <a:ext cx="376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52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5998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Being good at games on the play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as important to general social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rock,.paper,scissors.jpg"/>
          <p:cNvPicPr/>
          <p:nvPr/>
        </p:nvPicPr>
        <p:blipFill>
          <a:blip r:embed="rId2"/>
          <a:stretch/>
        </p:blipFill>
        <p:spPr>
          <a:xfrm>
            <a:off x="2895480" y="38862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3:10:33Z</dcterms:created>
  <dc:creator>Melinda Bossenmeyer</dc:creator>
  <dc:description/>
  <dc:language>en-US</dc:language>
  <cp:lastModifiedBy>Melinda Bossenmeyer</cp:lastModifiedBy>
  <dcterms:modified xsi:type="dcterms:W3CDTF">2009-05-01T05:09:56Z</dcterms:modified>
  <cp:revision>12</cp:revision>
  <dc:subject/>
  <dc:title>Right to Recess</dc:title>
</cp:coreProperties>
</file>